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dt" idx="5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0B063-EA1D-4DB5-AF0A-90553D682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D9EF1-92CA-4391-A96C-4C65122C6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7328-9F09-4AD2-9B0E-F77DA758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2D36C-50B4-4A52-9246-BD4DF10A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612E-5CDE-46AA-B5D1-7FCEFD38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741F8-9B72-4E6F-BE54-564F8816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22CE5-DB87-4225-B97A-AF391057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1C254-C215-4517-8B53-25DE7FF89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B769B-99D5-4904-998E-9712368D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70463-5B32-4279-98CE-6B3E4824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10ACA-BCDB-4668-B365-60A8F2CC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E26CF-A785-4D7E-94EB-DAFBFC5D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8A3D7-85A1-4343-BE51-F08857D3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6BE4F-43F1-4B76-AD98-BB3D42935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6CA59-6127-4BC8-80EC-8E2E66A6A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A835F-3F3C-417B-9D98-BCECB5330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D775-F7D1-4BBE-9A5E-9AD8EE58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87DDA-447B-4016-8487-66A205945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FB8D8-144D-42E7-A942-50A6ACBB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4B28F-8132-455A-A56A-F824CFD88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1884F-6512-421E-80AE-A7DDFAAF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97967-A0D5-4B11-8A95-72CFB24B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6C2E1-1470-4DC5-8271-EEEC0C08E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6AA7E-CC94-4180-AFD4-DEFE9C678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CC196-2F23-4BCC-9491-43024615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125D32-D58F-473A-A43D-B03C3E47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CCDB7-DB69-4D91-A1FF-B634CDD9C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80A70-8962-476F-8241-9AF25CD9A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9361A-EE0D-4451-AE2B-B59C9974C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1CFF5-D05F-4D98-826F-8188D250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E6365-D396-4C80-BAA5-63A3727A6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6D1C8-62FB-4EED-8027-7F3868B2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A6500-52FC-4B51-B165-46A358EF5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7A61B-C03E-4B4D-87BF-97DCCE461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16E26-F3DF-488B-B2C7-D7B4326A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03218-AB16-467A-841C-29E19C9D3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965F1-6BD4-4B57-82C4-746DA4B25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88FF-EF15-48F1-A36D-2DEC2B423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6B5D-D09A-4110-A19B-DD50E691C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2CA0-B013-49B7-B03B-327DA8A80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E9E0-0B13-4920-8931-36F18A52C2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E724-DA68-43F1-B317-E3696540B9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1714-A85F-44D5-8F82-C3435CFDA2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297F2-12B0-4DD1-B139-A2097690A2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BC39-3E2D-413B-9A1E-9F9C9255F2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73734-D266-42D0-96F5-7D40FE8AC4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5BDB-704C-490B-8460-FB4A36EED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BE2A-0243-4BED-BD34-59038C2FA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0A31-E668-4660-A56B-7C08B94C9D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84D0-4A4B-4954-B115-01C6355338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241C-BDB2-4FAD-9CD9-CE421E566F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36F0-3ECC-423A-8761-3977A799FA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DB52-34E1-4728-AC38-85434C1024A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860-B4EE-4DAB-9BEF-55FBF2598F9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1D8B-F31C-4516-BC6C-E5BE7C3AF2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5878-1F72-4841-BD76-2B4BB5FA3C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7361-B199-401E-A78A-A20D736F20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3E2F-4300-43F7-9F71-DBE6459469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3A73-91B4-4DED-94D1-1E39D8344A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612-7A31-456B-BE1C-1D89C14290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CB8-38DC-4410-AFF3-8D96B9025D5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AEC-57E1-4015-B52C-E2D74AEF72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97F7-9F55-41E7-8D72-72BF3A24B3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C6E4-E018-48A1-B7AC-D76A7FAF64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9F30-603D-4C8F-AA79-C08A5302B34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C4C-5376-48D0-A3C3-9B89F0FF192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3CA51-0257-4E19-8347-232F8A6135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C57277-3ABB-46A2-A5F8-295A59EA43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F60FF-7FDC-42EC-ABE9-70E058968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DDF14-2F1A-4F89-B8C5-4866716BC7E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4B0EF-F238-47AF-A897-F0159A908C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86134-9331-4DA0-ACA2-526D0257F81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8A66D-AD8B-4CF1-9CE4-00AA8E681D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46F25-C4CB-4B7E-8A1D-208CBD3979E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4201B-483A-4425-9178-6989DD0F20B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6F08D-C43A-4545-9B66-1AD6F727C4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3DE4F-53F8-4D7F-9DAC-6977C96DC4C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405A6-675D-4ED4-BADF-B1523914A0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1A3D2-7858-46B3-97EE-D0029F411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DE7F-8F4C-4895-961B-A87482D37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D900-B401-4C86-A314-916D49F0F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C3DE-2107-47AE-8016-C094A7BC3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1550-F07B-4E86-BC66-A6F4E084F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BC49-6DEE-49B8-B28C-5FF16FD37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6D4EF-F3EC-40FF-9E33-01F42EA8F9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B37C6-46FF-4DF6-96FF-773C58C48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60558-8999-4904-A8C1-11729B5E3F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78079-05CD-4F82-9534-4A7C470839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1295280" y="304920"/>
            <a:ext cx="7848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2895480"/>
            <a:ext cx="86104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he third mod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inth un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898989"/>
                </a:solidFill>
                <a:latin typeface="Calibri"/>
              </a:rPr>
              <a:t>REHABILITATION OF PATIENTS WITH THE LESION OF PERIPHERAL MOTOR NEUR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6320" y="227160"/>
            <a:ext cx="1441440" cy="19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The nervus facialis is the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VII cranial nerve which provides motor innervation of the mimic musculature an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parasympatetic innervation of the lacrimal, submandibular and sublingual glands, while providing gustative perception from the anterior two-thirds of tongue.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Its motor nucleus is located in the pons and on its exit from the brainstem it passes through the pontocerebellar angle, enters the bone canal (canalis nervi facialis-Fallopian canal) in the petrous bone and exits through the stylomastoid foramen under the ear, after which it branches and innervates the facial muscles (mimic musculature)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Facial nerve le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533520" y="2209680"/>
            <a:ext cx="7924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facial nerve lesions, regardless of the level, starting from the motor cells located in the motor nucleus in the pons to its ending branches, lead to peripheral facial pals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peripheral facialis”, “prosopoplegia”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Bell's facial pal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457200" y="1828800"/>
            <a:ext cx="8381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ten caus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ld 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pecial sensitivity to coo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sure of the face to the col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“draught” near the open window of a car or train, wind blow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hich leads to the sudden asymptomatic palsy of the mimic musculature on one side of the face and is cal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LL'S FACIAL PALSY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paralysis a frigore”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755640" y="993600"/>
            <a:ext cx="80773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criteria for diagnosing Bell's facial pals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re as follow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dden beginning of one-sided paresys or palsy of the facial mus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ck of signs of the CNS dam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bscence of the middle ear diseas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r the posterior cranial fossa disease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torhinolaryngologist and neurologi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pection reveal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acial assymetr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s a result o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alsy of one half of the facial mimic musc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alf of the forehead is without wrink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eyebrow is lower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nasolabial fold is fl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t side of the mouth droop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1476360" y="1916280"/>
            <a:ext cx="70102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edicamentous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rsing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530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457200" y="27792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540320" cy="3378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4908600" y="2660760"/>
            <a:ext cx="4235400" cy="31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"/>
          <p:cNvSpPr/>
          <p:nvPr/>
        </p:nvSpPr>
        <p:spPr>
          <a:xfrm>
            <a:off x="457200" y="2779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2"/>
          <a:stretch/>
        </p:blipFill>
        <p:spPr>
          <a:xfrm>
            <a:off x="4908600" y="2433600"/>
            <a:ext cx="40068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457200" y="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0" y="609480"/>
            <a:ext cx="9144000" cy="60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Upper extrem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Axillary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Laesio nervi axillaris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 deltoideus, which is clinically manifested by inability to elevate the ar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raise) above the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should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Musculocutaneous nerve injury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Laesio nervi musculo-cutanei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bice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rachii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nd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upin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rotate face-u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 ar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adial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aesio nervi radialis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ads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s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s extens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of the lower-arm, hand and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ext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straighte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lower-arm, hand and fingers and gives a clinical picture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wrist drop"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dianus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media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initiate be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of the hand and first three fingers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which is clinically manifested by inability to flex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e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the hand and the first three fin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Benediction sign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nar nerve inju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000" spc="-1" strike="noStrike">
                <a:solidFill>
                  <a:srgbClr val="000000"/>
                </a:solidFill>
                <a:latin typeface="Calibri"/>
              </a:rPr>
              <a:t>Laesio nervi ulnar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palsy or paresis of the small muscles of the hand and flexors of the ring and little finger, which is clinically manifested by inability t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fle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(bend) the ring and little finger, and weak finger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abduction and addu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gives a clinical picture of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claw hand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</a:rPr>
              <a:t> deformity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ower extrem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e perone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sio nervi peronealis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dorsal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oss of dorsal flex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nding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of the foot and toes and inability to do heel-walk on the affected foot, and gives a clinical picture of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drop foo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The patient is unable to hold the foot up, and thus raises the thigh up while walking to decrease the risk of tripping, and the toes hit the ground first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cock-walk  gait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 posterior tibial nerve injur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CS" sz="2200" spc="-1" strike="noStrike">
                <a:solidFill>
                  <a:srgbClr val="000000"/>
                </a:solidFill>
                <a:latin typeface="Calibri"/>
              </a:rPr>
              <a:t>Laeio nervi tibialis posteri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leads to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palsy or paresis of the muscle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ich provide plantar flexion of the foot and toe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hich is clinically manifested by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he lack of plantar flexion of the foot and toes and inability to do toe-walk on the affected foo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  During a stance phase of the affected leg, the limb support is on the heel first and the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omes the toe-dro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leaving the foot flat on the ground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("steppage </a:t>
            </a:r>
            <a:r>
              <a:rPr b="1" i="1" lang="sr-CS" sz="2200" spc="-1" strike="noStrike">
                <a:solidFill>
                  <a:srgbClr val="000000"/>
                </a:solidFill>
                <a:latin typeface="Calibri"/>
              </a:rPr>
              <a:t>gait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ANATOMOPHYS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conducts the stimuli from the periphery to the central nervous system and vice vers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peripheral nervous system involv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keletomotor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еfferent fibe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ensory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аfferent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Vegetative nerve cel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ympaticus and parasympati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GENERAL PRINCIPLES OF PHYSICAL THERAPY FOR PERIPHERAL NERVE PALS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08120" indent="-708120" algn="just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Unlike the central motor neurons, the peripheral nerve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re capable of re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120" indent="-708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nabling thus the functional recove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ca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ake various amounts of tim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depending on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level of lesion an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gree of damage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3800" indent="-606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08120"/>
                <a:tab algn="l" pos="1165320"/>
                <a:tab algn="l" pos="1622520"/>
                <a:tab algn="l" pos="2079720"/>
                <a:tab algn="l" pos="2536920"/>
                <a:tab algn="l" pos="2994120"/>
                <a:tab algn="l" pos="3451320"/>
                <a:tab algn="l" pos="3908520"/>
                <a:tab algn="l" pos="4365720"/>
                <a:tab algn="l" pos="4822920"/>
                <a:tab algn="l" pos="5280120"/>
                <a:tab algn="l" pos="5737320"/>
                <a:tab algn="l" pos="6194520"/>
                <a:tab algn="l" pos="6651720"/>
                <a:tab algn="l" pos="7108920"/>
                <a:tab algn="l" pos="7566120"/>
                <a:tab algn="l" pos="8023320"/>
                <a:tab algn="l" pos="8480520"/>
                <a:tab algn="l" pos="8937720"/>
                <a:tab algn="l" pos="9394920"/>
                <a:tab algn="l" pos="98521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timely and adequate medicamentous and physical treatment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0" y="2779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hysical therapy  – tasks and ai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To provide optimal conditions for the tissue regeneration and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aintain the effectors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muscles) until the nerve regeneration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For the purpose of achieving maximum possible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function recovery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f recove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219320" y="1905120"/>
            <a:ext cx="7467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movement disord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araly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)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recovery of the damaged nerve functio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(paresys)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1000" indent="-606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207800"/>
                <a:tab algn="l" pos="106650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stage of permanent sequels of pals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Physical 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 very important component in the process of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restoring functioning of the patients with peripheral motor neuron diseas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02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he treatment of PMN lesion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ncludes almost all physical procedure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but the following trias is most important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39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Font typeface="Calibri"/>
              <a:buAutoNum type="arabicPeriod"/>
              <a:tabLst>
                <a:tab algn="l" pos="530280"/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Kinesitherapy</a:t>
            </a:r>
            <a:r>
              <a:rPr b="1" lang="sr-Latn-C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Verdana"/>
              </a:rPr>
              <a:t>Longitudinal galvanization along the nerve projection and ЕS with exponential currents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324160" y="2178000"/>
            <a:ext cx="4495680" cy="33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Technique of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696960" y="2529000"/>
            <a:ext cx="3558960" cy="2668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876920" y="259092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bipolar and monopola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862440" cy="28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Parameters for electrostim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228600" y="1447920"/>
            <a:ext cx="876312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meters for electrostimulation are determined according to Manual Muscle Testing Grading System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approximate impulse and pause duration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depending on the grade of peripheral pals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ever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( 500-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00 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oderate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(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10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ild dysfunction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( 50-125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50-50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muscle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---------------( 0,1- 3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/ 2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2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500/2000,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0-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1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ype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50/500,   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from</a:t>
            </a:r>
            <a:r>
              <a:rPr b="1" lang="en-AU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2+ -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according to MM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251460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ass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“0”, “1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assisted(“2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“3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ive resisted (“4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"/>
          <p:cNvSpPr/>
          <p:nvPr/>
        </p:nvSpPr>
        <p:spPr>
          <a:xfrm>
            <a:off x="1066680" y="15228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ETIOLOGY OF THE PMN DAM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f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virus herpes zoster, virus hepatita, polyo viru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etc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Intoxi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alcoho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carbon-monoxide, parathion, carbon-disulfid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heavy metal poisoning, botulism, toxin dyphteria, drug poisoning etc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tabolic disorder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uremia, porphyria, amyloidosis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beriberi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abetes mellit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lcoholism, hyper and hypothyreoidism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et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umo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benign and malignant tumo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discus herni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pondylophyt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and osteophyt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traumatic compress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 algn="just">
              <a:lnSpc>
                <a:spcPct val="10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Section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raumatic sec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with a sharp knife or sharp bone fragment in a bone fra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Favourable effect of exercising in water is mainly based on the following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cording to Archimedes’ principle,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object immersed in a fluid experiences an apparent weight loss equal to the weight of the fluid displaced, and also a decreased impact of gravity, which helps muscles, whose strength is insufficient for performing land movements, to easily perform exercises in water. water temperature reduces muscle spasm and improves circulat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scle weakness, greater efficacy in exercise has a beneficial psychological eff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9672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Dosed training load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Progressive increase and decrease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scending and descending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escendo and decresc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533520" y="1828800"/>
            <a:ext cx="85341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xford exercis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are determined once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De-Lorme method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Progressive resistance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</a:rPr>
              <a:t> exercis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petitive maximums are determined once  a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n 3 series of 10 contractions 5 times a wee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½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contractions wit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2/3 ma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10 contractions with max.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Sensory reedu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the palsy of the peripheral nerves which have abundant sensory innervation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uch as the lesion of the N. medianus, due to axonal disruption, which is almost inevitable occurrence in the lesion of the N. medianus, such as a neurotmesis injury, there occurs wrong reinnervation of the receptors, which is accompanied by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stereogn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inability to identify the shape, size, weight and type of the material which is placed in the patient's hand, in the absence of visual stimuli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ereognosis trai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volves manual exploration of differen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shapes, sizes, weights and textures of the objec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first three fingers of the corresponding hand (the skin of other fingers is protected with a glove) without using one's visual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ORTH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Prevent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swelling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actures and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Overstretching of the paralyzed mus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s p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457200" y="0"/>
            <a:ext cx="8229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RECOVERY S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alvanic current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galvanic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hydroelectric) baths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Drug electrophor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Vasodilato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1" i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Аnalge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Bernard'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(DDC) </a:t>
            </a: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Exponential curre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IF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 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5302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87480"/>
                <a:tab algn="l" pos="1444680"/>
                <a:tab algn="l" pos="1901880"/>
                <a:tab algn="l" pos="2359080"/>
                <a:tab algn="l" pos="2816280"/>
                <a:tab algn="l" pos="3273480"/>
                <a:tab algn="l" pos="3730680"/>
                <a:tab algn="l" pos="4187880"/>
                <a:tab algn="l" pos="4645080"/>
                <a:tab algn="l" pos="5102280"/>
                <a:tab algn="l" pos="5559480"/>
                <a:tab algn="l" pos="6016680"/>
                <a:tab algn="l" pos="6473880"/>
                <a:tab algn="l" pos="6931080"/>
                <a:tab algn="l" pos="7388280"/>
                <a:tab algn="l" pos="7845480"/>
                <a:tab algn="l" pos="8302680"/>
                <a:tab algn="l" pos="8759880"/>
                <a:tab algn="l" pos="9217080"/>
                <a:tab algn="l" pos="9674280"/>
                <a:tab algn="l" pos="1013148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analgetic proced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45720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Anode galv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Electroforesis of Novoc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duc's current "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Ultra-Rei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" or Ultrastimulation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currents (by Trabert)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I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VELS OF DAM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ESION LOC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1752480" y="2666880"/>
            <a:ext cx="67820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egment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radicular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eripher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– nerve le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GRAD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DEGREE OF NERV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prax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erve cont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transito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sorder of the nerve function caused by effect of 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Axonotme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xon disrup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s a pathoanatomical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injury of the axons and their myelin sheath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ereby Schwann's sheaths are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tubu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mainly undisturbed, which is the reason for considering axonotmes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 nerve lesion “in continuity“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eurotmesi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s 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mplete nerve disrup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most severe form of an injury, whereby its distal segment is subject to Wallerian degeneration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"/>
          <p:cNvSpPr/>
          <p:nvPr/>
        </p:nvSpPr>
        <p:spPr>
          <a:xfrm>
            <a:off x="457200" y="94284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DIAGNOSING THE LESIONS OF THE PERIPHERAL NER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58920" y="2205000"/>
            <a:ext cx="647712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computerized tomography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NM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nuclear magnetic resonance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MYEL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LECTROMYOGRAP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70000"/>
              </a:lnSpc>
              <a:spcBef>
                <a:spcPts val="700"/>
              </a:spcBef>
              <a:spcAft>
                <a:spcPts val="1199"/>
              </a:spcAft>
              <a:buClr>
                <a:srgbClr val="800080"/>
              </a:buClr>
              <a:buFont typeface="Calibri"/>
              <a:buAutoNum type="arabicPeriod"/>
              <a:tabLst>
                <a:tab algn="l" pos="606600"/>
                <a:tab algn="l" pos="1063800"/>
                <a:tab algn="l" pos="1521000"/>
                <a:tab algn="l" pos="1978200"/>
                <a:tab algn="l" pos="2435400"/>
                <a:tab algn="l" pos="2892600"/>
                <a:tab algn="l" pos="3349800"/>
                <a:tab algn="l" pos="3807000"/>
                <a:tab algn="l" pos="4264200"/>
                <a:tab algn="l" pos="4721400"/>
                <a:tab algn="l" pos="5178600"/>
                <a:tab algn="l" pos="5635800"/>
                <a:tab algn="l" pos="6093000"/>
                <a:tab algn="l" pos="6550200"/>
                <a:tab algn="l" pos="7007400"/>
                <a:tab algn="l" pos="7464600"/>
                <a:tab algn="l" pos="7921800"/>
                <a:tab algn="l" pos="8379000"/>
                <a:tab algn="l" pos="8836200"/>
                <a:tab algn="l" pos="9293400"/>
                <a:tab algn="l" pos="97506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"/>
          <p:cNvSpPr/>
          <p:nvPr/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Clinical examination of the motor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2286000" y="2286000"/>
            <a:ext cx="548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Insp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Streng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Reflex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Coordin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0" t="0" r="22589" b="0"/>
          <a:stretch/>
        </p:blipFill>
        <p:spPr>
          <a:xfrm>
            <a:off x="4038480" y="1752480"/>
            <a:ext cx="182880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277920"/>
            <a:ext cx="81532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anual muscle test (MMT) for evaluation of muscle fun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5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4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7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“3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5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2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25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1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1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grade "0"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(0% of muscle strength or function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5"   - maintained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1, 2, 3, 4   - paresys or partial muscle strength or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601200"/>
                <a:tab algn="l" pos="10058400"/>
                <a:tab algn="l" pos="105156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Grade "0" -  paralysis or complete loss of muscle fun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35:23Z</dcterms:created>
  <dc:creator>Mark Ricard</dc:creator>
  <dc:description/>
  <dc:language>en-US</dc:language>
  <cp:lastModifiedBy>Nada Miklja</cp:lastModifiedBy>
  <dcterms:modified xsi:type="dcterms:W3CDTF">2023-09-27T08:32:24Z</dcterms:modified>
  <cp:revision>44</cp:revision>
  <dc:subject/>
  <dc:title>Introduction To Manual Muscle Testing</dc:title>
</cp:coreProperties>
</file>